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3CF-8122-460B-91BA-FED1AB59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E7C0-7AC5-40DD-A135-02442ED8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CD0-26F2-49C1-8C1F-415DF23E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C9A-4835-4D4F-8F55-70D6EF9CD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827A-6456-4068-AF1F-6D345E43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9AD-8DB1-4FC7-AFDC-BDF43BB7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F743-1E44-4278-9B54-5FE9A0B1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A482-8F1E-4E0F-9A94-0E0E91C6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CAC-058C-4D33-9EFC-7F85C644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603-32FB-4A2A-AB8C-8762234D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9F7-7960-41F8-BD92-B16DA14F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BBF-31C4-4D42-8663-A183F8932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980-D6FF-4026-8008-DBD54E7A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90A-E42B-4044-9C2C-43907964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362-DD0D-45A8-B3A4-E15126D9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D74-9BE4-472A-9C52-C043C60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912-9AE3-49C9-B48E-CED29071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63B5-EF0A-4F15-A5A7-0DBF58E4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B318-DDDA-44E8-B0D7-A1DC26BD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E221-2018-4EB9-B3CC-2045DF7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E658-866C-4E85-8873-AF9B5B0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6B88-704D-438C-BC4E-ADF17CE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FFE-24A0-48F6-98A0-464A3C6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42A6-B9BA-40FE-8D9C-1FAED55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8DC-BCFB-4739-A928-B0CA08E1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E47-4F93-4826-9121-CD8FB95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CE04-1962-4D32-B5C0-DCABB5A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197-5845-4883-BD4B-B6DFA8A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DD8-5790-4AA4-8FBA-22C5B9AE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AD34-DCA5-482E-B493-F939EBD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AE2-B345-41DF-8349-41EB9D7C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4B8-E64E-4AD0-9158-1FDDDC7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570-14A8-4A5A-904B-B723348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7CF-BE0F-47E1-B936-68A2E91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72E-A458-4599-8380-C5A1B71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5E6-7817-446C-9E32-24C797A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24D-90AF-43D6-BA52-0BC979C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F93-D7E0-45DC-AB14-223603C58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085-2295-4ECF-8F4E-C467F64FE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?module=uploads&amp;func=download&amp;fileId=305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ARACIP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gentia </a:t>
            </a:r>
            <a:r>
              <a:rPr b="0" lang="ro-RO" sz="29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m</a:t>
            </a:r>
            <a:r>
              <a:rPr b="0" lang="ro-RO" sz="2900" spc="-1" strike="noStrike">
                <a:solidFill>
                  <a:srgbClr val="000066"/>
                </a:solidFill>
                <a:latin typeface="Arial"/>
              </a:rPr>
              <a:t>ână de Asigurare a Calităţii în Învăţământul Preuniversita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o instituţie publică , în subordinea MEdC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fiinţată prin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Ordonanţa de urgenţă a Guvernului nr. 75/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asigurarea calităţii educaţiei, aprobată prin Legea nr. 87/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Criterii de selecţie a reprezentanţilor  corpului profesoral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83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fesion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bine pregătit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u bună reputaţie în şcoală şi comun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u rezultate obţinute de către elevi, prin care a sporit prestigiul şcol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telectu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deschis schimbărilor, flexibil, receptiv la 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  pasionat pentru me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adept al muncii de cal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rganization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preocupat pentru asigurarea unor noi resurse educaţ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bun organizato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oral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fire neconflictual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ţinută morală impecabil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comunicativ, emp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ROLUL COMISIEI PENTRU EVALUARE ŞI ASIGURAREA CALITĂŢII</a:t>
            </a:r>
            <a:r>
              <a:rPr b="0" lang="ro-RO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200" y="2044800"/>
            <a:ext cx="7851960" cy="397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ALIZEAZĂ EVALUAREA INTERNĂ A ŞCOLII, PE BAZA STANDARDELOR DE FUNCŢIONARE ŞI A CELOR DE  C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PUNE O STARTEGIE DE ÎMBUNĂTĂŢIRE A CALITĂŢ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MPLEMENTAREA SISTEMULUI DE MANAGEMENT AL CALITĂ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ATRIBUŢIILE COMISIEI PENTRU EVALUARE ŞI ASIGURAREA CALITĂŢI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DEFINEASCĂ –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valorile, principiile şi indicatorii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CONSTRUIASC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prin participare şi dezbatere,  consensul tuturor “purtătorilor de interese”(elevi, profesori,părinţi ,angajatori)în privinţa indicatorilor de cali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URMĂREASC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respectarea procedurilor curente de funcţionare şi dezv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EVALUEZE IMPACTU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tuturor activităţilor din şcoală asupra calităţii educ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PROPUNĂ MĂSUR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de optimizare/ dezvoltare a calităţii educaţiei ofe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 ale calit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erea unor necesitati; gradul de satisfactie al clientilor; capacitatea de a indeplini o trebuinta corespunzatoare pentru a fi utilizata, si in conformitate cu anumite cerintele ceru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9000/2000: “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are un ansamblu de caracteristici implicite satisfac cerinte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.75/2005: “calitatea educatiei este ansamblul de caracteristici ale unui program de studiu si ale furnizorului acestuia, prin care sunt satisfacute asteptarile beneficiarilor, precum si standardele de calitate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.75/2005: “asigurarea calitatii in educatie exprima capacitatea unei organizatii furnizoare de a oferi programe, in conformitate cu standardele nationale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iunea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ARACIP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R.A.C.I.P. realizeaz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evaluarea extern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alităţii educaţiei oferite de instituţiile de învăţământ preuniversitar şi de alte organizaţii furnizoare de educaţi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autorizarea, acreditarea şi evaluarea periodic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unităţilor de învăţământ preunivers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tivităţile ARACIP?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zează activitatea d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valuare şi acreditare a furnizori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 educaţie din învăţământul preuniversit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ectuează, pe baze contractuale, la solicitarea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strului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caţiei şi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etării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valuarea calităţii educaţi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in învăţământul preuniversit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zează, împreună cu inspectoratele şcolare şi direcţiile de resort din Ministerului Educaţiei şi Cercetării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itatea de monitorizare şi control al calităţi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ectuează, cel puţin o dată la 3 ani, evaluarea organizaţiilor furnizoare de educaţie acredit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une Ministerului Educatiei şi Cercetării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înfiinţarea şi acreditarea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in ordin, a instituţiilor de învăţământ preuniversitar pentru fiecare nivel de învăţământ, program de studii şi calificare profesională, după caz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aborează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tandardele</a:t>
            </a:r>
            <a:r>
              <a:rPr b="1" i="1" lang="ro-RO" sz="1800" spc="-1" strike="noStrike">
                <a:solidFill>
                  <a:srgbClr val="ff0000"/>
                </a:solidFill>
                <a:latin typeface="Times New Roman"/>
              </a:rPr>
              <a:t> naţionale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şi indicatorii de performanţă, metodologia de evaluare instituţională şi de acreditare, manuale de evaluare internă a calităţii, ghiduri de bune practici, un raport anual cu privire la propria activitate, analize de sistem asupra calităţii învăţământului preuniversitar din România, recomandări de îmbunătăţire a calităţii invăţământului preuniver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STANDARDELE NATIONALE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FINIRE :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prezintă descrierea cerinţelor formulate în termeni de reguli sau rezultate, care definesc nivelul de realizare a unei activităţi de educaţ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TIPURI DE STANDAR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autor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acreditare şi evaluare period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calitate :minimale, de referinţă, de excel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STRUCTURA STANDARDELOR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prinde 3 domenii :CAPACITATE INSTITUŢIONALĂ, EFICACITATE EDUCAŢIONALĂ ŞI MANAGEMENTUL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. CAPACITATE INSTITUŢIONAL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MANAGEMENTUL 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MANAGEMENTUL OPERAŢ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BAZA MATERIALĂ: spaţii şcolare, spaţii administrative,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paţii auxiliare, materiale şi mijloace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      învăţământ , auxiliare curriculare, documente ş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SURSE UMANE : managementul personalului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ducere, didactic, didactic auxiliar şi nedid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20" y="94680"/>
            <a:ext cx="78692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200" y="1599840"/>
            <a:ext cx="785196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FICACITATEA EDUCAŢIONAL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CONŢINUTUL PROGRAMELOR DE STUDIU : ofert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ducaţională, curricul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ZULTATELE ÎNVĂŢĂRII : performanţele şcolare, performanţ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xtraş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ACTIVITATEA DE CERCETARE SAU METODICĂ: activitat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tiinţifi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ACTIVITATEA FINANCIARĂ: surse de constituire a bugetului,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xecuţ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bugeta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9640" y="-14040"/>
            <a:ext cx="7823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906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. MANAGEMENTUL CALITĂ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TRATEGII ŞI PROCEDURI PT ASIGURAREA CALITĂŢII: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autoevaluarea instituţional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VIZUIREA PERIODICĂ A OFERTEI EDUCAŢ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OPTIMIZAREA PROCEDURILOR DE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EVALUAREA CALITĂŢII CORPULUI PROFES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OPTIMIZAREA ACCESULUI LA RESURSELE EDUCAŢ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CONSTITUIREA ŞI ACTUALIZAREA BAZEI D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TRANSPARENŢA INFORMAŢIILOR DE INTERES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FUNCŢIONAREA STRUCTURILOR DE ASIGURARE A CALITĂŢII EDUCAŢI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COMISIA PENTRU EVALUARE ŞI ASIGURARE A CALITĂŢII</a:t>
            </a: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1. CADRUL LEG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Legea 87/2006 pentru aprobarea O.U.G. Nr 75/2005 privind asigurarea calităţii, art 11 şi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ROFUIP aprobat prin OMEdC nr 4925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trategia descentralizării învăţământului preuniversi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. COMPONENŢA COMISI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4- 8 membri + 1 coordo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a) 1-3 reprezentanţi ai corpului profes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b)  1 reprezentant al sindicatului reprezent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)  1 reprezentant al părinţ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)  1 reprezentant al elev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)  1 reprezentant consiliul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oordonatorul comisiei este conducătorul instituţiei sau o persoană desemnată de ac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57:54Z</dcterms:created>
  <dc:creator>Error</dc:creator>
  <dc:description/>
  <dc:language>en-US</dc:language>
  <cp:lastModifiedBy>Dana</cp:lastModifiedBy>
  <dcterms:modified xsi:type="dcterms:W3CDTF">2011-05-24T15:08:24Z</dcterms:modified>
  <cp:revision>4</cp:revision>
  <dc:subject/>
  <dc:title>ARACIP  Agentia Română de Asigurare a Calităţii în Învăţământul Preuniversitar</dc:title>
</cp:coreProperties>
</file>